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CDEAC-1A5E-44E6-AE0F-A6838DEB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3D9A7-5434-4C2C-99C1-F504CC84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C4574-C412-4FCF-B17E-705178F1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D0644-8312-43E6-9E35-38D2A770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818F-60CC-41A6-8F30-EE96AE7B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E276-BEDE-4638-815A-C5136E33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8BCF-6C0B-4771-A53D-17653F72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D1A0-E08D-439F-ADC9-645F55B4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F020-3955-425D-BBF1-21BCD0DE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5DF8-E73A-4AC6-A7C9-5A46D051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74EA-39D1-4168-8523-D9DFA19F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877F0-B351-4E7C-BB97-CC8F6525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D07F-6EFF-4C8A-AE7F-A26E5DFC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DD0A-6191-45F4-AF2C-A882E5DA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962F-17C8-4D3C-A871-22A674C8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D6C1-9420-4220-ABEC-9D05DB92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A9B7-58B5-479C-8F6E-F19797B3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82CEF-4730-4B5E-B11F-29D1451B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17833-EA91-4CD9-95BC-66F56A18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B4E9A-2295-4E87-A7E2-59998BFD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A04DA-4A98-40F7-8400-502A7A1C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016BF-7523-4C06-A481-78C2B247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FB184-3558-4A94-AF06-7E81E135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98629-CB34-4B48-8E05-D39AC708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0CCE-37CC-466F-B1A9-F0BE48E464A2}" type="slidenum">
              <a:rPr b="0" lang="ar-SA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60D7-C941-4E92-BCF1-E97925A966DF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10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200" spc="-1" strike="noStrike">
                <a:solidFill>
                  <a:srgbClr val="ffff9e"/>
                </a:solidFill>
                <a:latin typeface="Palatino Linotype"/>
                <a:cs typeface="PT Bold Heading"/>
              </a:rPr>
              <a:t>مقاييس الوفيات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0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200" spc="-1" strike="noStrike">
                <a:solidFill>
                  <a:srgbClr val="ffff9e"/>
                </a:solidFill>
                <a:latin typeface="Palatino Linotype"/>
                <a:cs typeface="PT Bold Heading"/>
              </a:rPr>
              <a:t>معدل الوفيات الخام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200" spc="-1" strike="noStrike">
                <a:solidFill>
                  <a:srgbClr val="ffff9e"/>
                </a:solidFill>
                <a:latin typeface="Palatino Linotype"/>
                <a:cs typeface="PT Bold Heading"/>
              </a:rPr>
              <a:t>معدل الوفيات النوعية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200" spc="-1" strike="noStrike">
                <a:solidFill>
                  <a:srgbClr val="ffff9e"/>
                </a:solidFill>
                <a:latin typeface="Palatino Linotype"/>
                <a:cs typeface="PT Bold Heading"/>
              </a:rPr>
              <a:t>معدل الوفيات العمرية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200" spc="-1" strike="noStrike">
                <a:solidFill>
                  <a:srgbClr val="ffff9e"/>
                </a:solidFill>
                <a:latin typeface="Palatino Linotype"/>
                <a:cs typeface="PT Bold Heading"/>
              </a:rPr>
              <a:t>معدل وفيات الاطفال الرضع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200" spc="-1" strike="noStrike">
                <a:solidFill>
                  <a:srgbClr val="ffff9e"/>
                </a:solidFill>
                <a:latin typeface="Palatino Linotype"/>
                <a:cs typeface="PT Bold Heading"/>
              </a:rPr>
              <a:t>الخصوبة الصافية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200" spc="-1" strike="noStrike">
                <a:solidFill>
                  <a:srgbClr val="ffffcc"/>
                </a:solidFill>
                <a:latin typeface="Tahoma"/>
              </a:rPr>
              <a:t>معدل الوفيات الخا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ffcc"/>
                </a:solidFill>
                <a:latin typeface="Tahoma"/>
              </a:rPr>
              <a:t>معدل الوفيات الخام = </a:t>
            </a:r>
            <a:r>
              <a:rPr b="1" lang="ar-IQ" sz="3200" spc="-1" strike="noStrike">
                <a:solidFill>
                  <a:srgbClr val="ffffcc"/>
                </a:solidFill>
                <a:latin typeface="Tahoma"/>
              </a:rPr>
              <a:t>19.38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1042920" y="1749600"/>
            <a:ext cx="7418520" cy="2474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2286000" y="3048120"/>
            <a:ext cx="6254640" cy="1295280"/>
          </a:xfrm>
          <a:prstGeom prst="rect">
            <a:avLst/>
          </a:prstGeom>
          <a:ln w="255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200" spc="-1" strike="noStrike">
                <a:solidFill>
                  <a:srgbClr val="ffffcc"/>
                </a:solidFill>
                <a:latin typeface="Tahoma"/>
              </a:rPr>
              <a:t>معدل الوفيات النوعية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000920" cy="923760"/>
          </a:xfrm>
          <a:prstGeom prst="rect">
            <a:avLst/>
          </a:prstGeom>
          <a:ln w="25560">
            <a:solidFill>
              <a:srgbClr val="ff3300"/>
            </a:solidFill>
            <a:miter/>
          </a:ln>
        </p:spPr>
      </p:pic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1143000" y="4038480"/>
            <a:ext cx="6943680" cy="924120"/>
          </a:xfrm>
          <a:prstGeom prst="rect">
            <a:avLst/>
          </a:prstGeom>
          <a:ln w="255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200" spc="-1" strike="noStrike">
                <a:solidFill>
                  <a:srgbClr val="ffffcc"/>
                </a:solidFill>
                <a:latin typeface="Tahoma"/>
              </a:rPr>
              <a:t>معدل الوفيات النوعية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بلغ عدد الوفيات الذكور خلال سنة </a:t>
            </a: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2005</a:t>
            </a: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 في الكويت (</a:t>
            </a: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28964</a:t>
            </a: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) ، اما الاناث فبلغ عدد الوفيات ( </a:t>
            </a: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13553</a:t>
            </a: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 ) نسمة استخرج معدل الوفيات النوعي لكل من الذكور والاناث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معدل الوفيات النوعية للذكور = </a:t>
            </a: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22.27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معدل الوفيات النوعية للاناث = </a:t>
            </a: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15.17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3200400" y="4572000"/>
            <a:ext cx="4971960" cy="819000"/>
          </a:xfrm>
          <a:prstGeom prst="rect">
            <a:avLst/>
          </a:prstGeom>
          <a:ln w="25560">
            <a:solidFill>
              <a:srgbClr val="ff3300"/>
            </a:solidFill>
            <a:miter/>
          </a:ln>
        </p:spPr>
      </p:pic>
      <p:sp>
        <p:nvSpPr>
          <p:cNvPr id="1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2895480" y="2971800"/>
            <a:ext cx="5153040" cy="819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5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200" spc="-1" strike="noStrike">
                <a:solidFill>
                  <a:srgbClr val="ffffcc"/>
                </a:solidFill>
                <a:latin typeface="Tahoma"/>
              </a:rPr>
              <a:t>معدل الوفيات العمري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بلغ عدد الوفيات للفئة العمرية (</a:t>
            </a: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55</a:t>
            </a: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59</a:t>
            </a: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 ) سنة </a:t>
            </a: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2005</a:t>
            </a: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637</a:t>
            </a: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معدل الوفيات العمرية للفئة (</a:t>
            </a: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55</a:t>
            </a: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59</a:t>
            </a: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)= </a:t>
            </a: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13.1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048360" cy="923760"/>
          </a:xfrm>
          <a:prstGeom prst="rect">
            <a:avLst/>
          </a:prstGeom>
          <a:ln w="25560">
            <a:solidFill>
              <a:srgbClr val="ff3300"/>
            </a:solidFill>
            <a:miter/>
          </a:ln>
        </p:spPr>
      </p:pic>
      <p:sp>
        <p:nvSpPr>
          <p:cNvPr id="1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1295280" y="3505320"/>
            <a:ext cx="6877080" cy="1137960"/>
          </a:xfrm>
          <a:prstGeom prst="rect">
            <a:avLst/>
          </a:prstGeom>
          <a:ln w="255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477120" cy="636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200" spc="-1" strike="noStrike">
                <a:solidFill>
                  <a:srgbClr val="000000"/>
                </a:solidFill>
                <a:latin typeface="Tahoma"/>
              </a:rPr>
              <a:t>معدل وفيات الرض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معدل الوفيات الرضع = </a:t>
            </a: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6.7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494840" cy="1143000"/>
          </a:xfrm>
          <a:prstGeom prst="rect">
            <a:avLst/>
          </a:prstGeom>
          <a:ln w="9360">
            <a:solidFill>
              <a:srgbClr val="601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1981080" y="2438280"/>
            <a:ext cx="6402600" cy="1447920"/>
          </a:xfrm>
          <a:prstGeom prst="rect">
            <a:avLst/>
          </a:prstGeom>
          <a:ln w="25560">
            <a:solidFill>
              <a:srgbClr val="602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5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6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1" dur="5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ffffff"/>
                </a:solidFill>
                <a:latin typeface="SimSun-ExtB"/>
                <a:cs typeface="SimSun-ExtB"/>
              </a:rPr>
              <a:t>الخصوبة الصافية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ffff"/>
                </a:solidFill>
                <a:latin typeface="SimSun-ExtB"/>
                <a:cs typeface="SimSun-ExtB"/>
              </a:rPr>
              <a:t>الخصوبة الصافية= عدد المواليد – عدد وفيات الاطف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ffff"/>
                </a:solidFill>
                <a:latin typeface="SimSun-ExtB"/>
                <a:cs typeface="SimSun-ExtB"/>
              </a:rPr>
              <a:t>الخصوبة الصافية = </a:t>
            </a:r>
            <a:r>
              <a:rPr b="1" lang="ar-IQ" sz="3200" spc="-1" strike="noStrike">
                <a:solidFill>
                  <a:srgbClr val="ffffff"/>
                </a:solidFill>
                <a:latin typeface="SimSun-ExtB"/>
                <a:ea typeface="SimSun-ExtB"/>
              </a:rPr>
              <a:t>49006</a:t>
            </a:r>
            <a:r>
              <a:rPr b="1" lang="ar-IQ" sz="3200" spc="-1" strike="noStrike">
                <a:solidFill>
                  <a:srgbClr val="ffffff"/>
                </a:solidFill>
                <a:latin typeface="SimSun-ExtB"/>
                <a:ea typeface="SimSun-ExtB"/>
              </a:rPr>
              <a:t> – </a:t>
            </a:r>
            <a:r>
              <a:rPr b="1" lang="ar-IQ" sz="3200" spc="-1" strike="noStrike">
                <a:solidFill>
                  <a:srgbClr val="ffffff"/>
                </a:solidFill>
                <a:latin typeface="SimSun-ExtB"/>
                <a:ea typeface="SimSun-ExtB"/>
              </a:rPr>
              <a:t>527</a:t>
            </a:r>
            <a:r>
              <a:rPr b="1" lang="ar-IQ" sz="3200" spc="-1" strike="noStrike">
                <a:solidFill>
                  <a:srgbClr val="ffffff"/>
                </a:solidFill>
                <a:latin typeface="SimSun-ExtB"/>
                <a:ea typeface="SimSun-Ext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ffff"/>
                </a:solidFill>
                <a:latin typeface="SimSun-ExtB"/>
                <a:cs typeface="SimSun-ExtB"/>
              </a:rPr>
              <a:t>الخصوبة الصافية = </a:t>
            </a:r>
            <a:r>
              <a:rPr b="1" lang="ar-IQ" sz="3200" spc="-1" strike="noStrike">
                <a:solidFill>
                  <a:srgbClr val="ffffff"/>
                </a:solidFill>
                <a:latin typeface="SimSun-ExtB"/>
                <a:ea typeface="SimSun-ExtB"/>
              </a:rPr>
              <a:t>4847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6:55:46Z</dcterms:created>
  <dc:creator>ms</dc:creator>
  <dc:description/>
  <dc:language>en-US</dc:language>
  <cp:lastModifiedBy>المستقبل</cp:lastModifiedBy>
  <dcterms:modified xsi:type="dcterms:W3CDTF">2017-03-22T16:01:10Z</dcterms:modified>
  <cp:revision>66</cp:revision>
  <dc:subject/>
  <dc:title>تحليل كفاءة الخدمات التعليمية والصحية والترفيهية في  مدينة الناصرية</dc:title>
</cp:coreProperties>
</file>